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1AC-F339-46E1-8729-8BC27FDC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4F1-7BD3-4A95-9CEB-57C7EFDF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CEF-E9C7-4A7F-AB6A-F51894C4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C39-9FBF-46D1-8D9B-911F68F1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FDB0-2480-45E3-8D93-B1870BD1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1386-53E2-4029-A73C-FE458BE7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9AF0-7452-4536-BCE4-018BD1C9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3FB0-43D8-4085-8D28-2AD17F5E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77B1-5B0E-4E97-88E7-8ED8D24D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D171-3B21-4FB5-9B41-F771075E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17EC-1C34-411A-BFEF-6DECF18B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843-E3EC-46A8-8D28-AD860D20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F0C5-F18D-4677-BA86-46788181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DC8E-0E10-4A95-BE51-EC503849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B778-5DBB-4A63-9899-B0B504E6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DF48-1371-4695-A4B6-885089EC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57F0-633E-4702-BED5-A97A654B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78A1F-FA63-491C-959C-025078E9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3E35A-011F-4B63-ACE2-DD0FE2EB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627C-3B16-45D4-8A74-F454399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6CE1-A2A4-4E84-9CF2-4A31F37D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D946-9ED8-474E-80BD-80806B05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AF8-98B8-4A1E-899F-25162949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FF2D-E9DC-4FE9-AE3D-A2B255A7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AB8C-4FCC-4641-B63B-F171D5F2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5B3E-704D-4A82-90BC-0CA4F0AA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DDF2-C1FD-41B4-AD39-B32477FC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777C3-4798-4D1A-A9D1-087EF314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F413-3897-4E5D-9B8B-7EE8A1CB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892DD-7D6C-4E12-BBCF-4340A5AA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9965D-634C-478A-B06D-60C1108E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F4626-ED30-4517-99AC-D73D3FBD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2039E-5997-41DF-9368-81C95822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5C1-B12A-4496-AA15-D4A248A1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7D89F-6BC9-4ECA-8BE9-277FA24B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C3E1D-0746-4404-844F-D2752794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0FA2C-827C-4515-8255-818B962A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FA955-3983-46F2-B239-CB50FF15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3EEC1-DAA2-4870-89C7-13A7D5AC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21D4-924E-423E-8F00-E809A7C6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7571-46F9-4DD1-B996-EED0B0F5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1D58B-C279-40DE-BC48-AE8128D0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F8465-3501-459E-8469-57E52436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CD8C3-B255-4EEF-A512-01EB4D45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171-C803-4D51-917E-9E37FF9D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0D501-EBD3-4D05-954B-EBBE632C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B9D94-DC6E-4192-9AF6-C2357462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9E315-1C22-4639-80A8-8649CA1D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BBE62-C8EA-4A1D-8F8C-BCEB4E34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4FFBE-5865-41F9-848B-A4E039D5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DEFA1-B594-417F-96CF-281540EA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679E2-B37D-4CDD-A86A-A6893ED8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92D8E-EBD6-41C1-A872-4198B314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78EC5-DB1C-48E2-A95B-BD28A893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EF6C4-0CAB-4F5B-A63E-45DDA33C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3D1-9F2F-44E7-A8B6-22D783DA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4BA09-0C1A-4518-B264-2731808B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C5BA7-D9FA-42A3-B60C-30E3D635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F2198-19B9-46B2-9E9C-3DE323AC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B8317-40B6-478A-A4C0-41BD762F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12B31-4421-4D00-84F8-59628041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E3973-2D5C-4FED-BC86-9FF42D98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566A9-567A-4A0D-B73A-B28A26EF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23475-0E1E-43FA-8D78-72ACF44E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BA463-F3D4-4B28-A258-45409825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682F1-CB51-4150-85F5-E7A5BF65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639-2586-4E62-9E04-DBBEC791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E6401-3D25-4635-87C8-52BF6B70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163C6-5F82-4E68-AF02-8DECE2A9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2E9DF-E442-4B44-9A3E-9DBF3E11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6F2-AEE7-4FB0-9DCA-98AAC4B3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D23-7147-41DB-BFC8-00ACF04F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0811-A0AD-4A67-8C40-201907B1CB2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9C9C-FE67-4FF7-878F-9948DED4A0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D9E1-ABD4-48C3-B430-EAE20AFED61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48F6-207C-41F8-B5C6-4E48AB015FF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6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7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107-EC01-4ECC-9C95-8CF554CBA29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4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5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6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6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8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6CA9-A089-4755-B398-1AE6A668794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 Unicode MS"/>
              </a:rPr>
              <a:t>Тема проект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25240" y="3713040"/>
            <a:ext cx="63961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99"/>
                </a:solidFill>
                <a:uFillTx/>
                <a:latin typeface="Arial Unicode MS"/>
              </a:rPr>
              <a:t>Авторы: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0" y="28584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000160" y="50720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Arial Unicode MS"/>
              </a:rPr>
              <a:t>Руководитель:</a:t>
            </a:r>
            <a:r>
              <a:rPr b="0" lang="en-US" sz="1800" spc="-1" strike="noStrike">
                <a:solidFill>
                  <a:srgbClr val="0066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облемный вопро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ьзуемые материа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студент</cp:lastModifiedBy>
  <dcterms:modified xsi:type="dcterms:W3CDTF">2010-05-24T11:08:56Z</dcterms:modified>
  <cp:revision>62</cp:revision>
  <dc:subject/>
  <dc:title>Слайд 1</dc:title>
</cp:coreProperties>
</file>